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FBB4-9C08-4B96-B231-78FCEBAD2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573E-B09D-4D09-AC30-B519464B8A3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95518-D28E-4AEA-8ADE-FB97485B2D1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AFC89-4698-40D9-B2AC-25E2BB3B2E9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4A943-E715-490C-BA66-3A11BD3CEB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A6002-8734-4A07-8EB0-F1053C88909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C4C22-99D6-4B07-8086-20227A32F9B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5DC6E-4017-4DC9-BD87-C3A6B7F3B4A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173BE-10F5-4AC9-A60F-B9BACBCFF5F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E36E7-054C-40B7-B207-96404709851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67381-0362-4BD1-B9B6-95308A53E0E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9AE7-7F12-495F-B56F-D8F987071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FF16-E9F8-4977-919A-030ADC678DE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304DC-0E1D-427A-AE3B-1382ECD6794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B0DA-32D4-4CA7-89FA-979190B043A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E922-684D-4746-8E08-87D1DEC4C22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ED52F-7D62-4B66-9EA9-65E9EA54DD2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7E4D-D8D4-4DD3-AC8A-4B77311686A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1F5A-BDF2-495F-BCE0-8B7804AEAC7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904A-4877-4470-8FD9-4DEB2589CD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8957-6A3A-4691-891F-7FD4937FED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85D14-0336-4B4E-9E83-6D6B644F256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A636-4992-4906-8FE8-77B788BC7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81AC-EF4D-4625-9D0D-2DE1F8EE8C8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06B87-82F5-4341-B363-51B6C20643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D08FD4-93BA-40C4-939A-729002D2C21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83C4A-51D9-4FAA-9B3B-E04A93C94FD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DA2D00-03AA-4448-8368-56B37859D6F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AE9A2-46D6-4DF2-B120-9B7CE2DAA4A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396A2-20F0-43D3-B836-3144EE5B4F2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CDCF8-62C5-4322-9BB4-578F8116D4D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526821-55CA-4D58-9CE1-442628F5333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52E74-E31F-4C0A-8D1A-09309573996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F14BA-5ABC-4885-92E1-1B93D3BC1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D0E9B-FC13-4B01-8EAC-2FE9C0F1955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8989C-8E34-45C7-863B-7CF59E28402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AFC6B-3E53-4CDD-A30E-F3FD17BB4F3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038B02-1E36-486A-991A-0B164AC7166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CF84E2-B029-4BBA-BC8E-21D3B69F5F8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D25C0-8D68-43C7-9593-CEEA55CBF70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3D263-5D80-4E53-8634-439F9AE1258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E945E-5776-4DBB-8C27-A4387C9B835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B8A573-B25B-4BC9-BC4F-74FFFDCBC4A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4C42B-6A2C-4238-8C09-F45C84AD94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7E875-ECAA-4673-AC37-D07CABEB1AD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DE9588-132E-4082-8856-A860F0C2032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3099D0-D530-41CF-A915-51173D034C4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07A4C-EA87-4FFC-9DB8-C099D53514B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A6D63-103D-4136-ADEB-FD16C67484A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8836-126F-42D5-A2D9-9D7B912C73A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AC3C2-8174-42CF-842C-A20E7833C9F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2D2F-3BAA-48C2-929E-FF6ACA66E0C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D643-6DB4-47A3-A456-A2F8EB3B4B6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ADA9B-7F01-4216-B9B3-DCDFA5D665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DADA1-0A87-4607-9142-C71EFE136B0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0C82-653E-446D-9D69-8F388FC2072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83BA-B611-43BE-8814-A4177E50EEB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D9D08-ADEF-4721-9D76-A99FC71E5D8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1B9F-8328-4BE2-B0FA-8295B4A9A20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AAE8-0631-41E5-9772-F556B809C3D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1493-5B90-4CE6-8CAA-33848C18A71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C6C4B-124F-4440-863C-C12BBA1CF53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08B3BC-978D-43E0-8000-11B1D61057E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F1A92E-8758-4F99-B26A-142A8FE1ED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E3C229-7C6B-4A25-98CB-9811F724C67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365706-AB85-4A87-B661-046154EC3AF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677465-4B69-49ED-A34C-04E0F62FE5B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4F786E-47FC-41F5-A0AB-C0E9E24478B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B5EE52-65BB-4100-AD94-483C910C03E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0ECB7-5263-4695-8356-145FC232306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37F5C5-CA85-4A32-AC06-C44C8DB5855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A503E1-9625-4667-9B34-891A2FBBDBE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27DAB3-7660-45A8-8753-EF22E79667E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E7E20-5568-4BE1-B41B-932791CD0A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E8A61-FFD9-45F5-B2E5-5AD8F2C00A5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61B46-DC32-49BC-BCD7-542407D472C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CF54B-3BA5-428E-B60D-7C2EEBE6B96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2E5F3-29AB-485A-BD24-CEEF7D3617F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3349F-A5EF-4BF5-A01B-652C030DDFF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5A0D3-238D-461A-AC5B-743C74BD60D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6EAF2-2D26-4B76-A34C-F8C322583EB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6A534-6616-43FF-8EB3-BE45E8061D2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28C6E-6FA0-4570-803F-BA52275EC7E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1A92C-F128-4BB8-9C61-298B5C67D7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06596-A4DC-488D-BFEC-E43781588D9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E70D-3D80-4F58-B660-1F1DA12AE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2AC1-CB07-4A42-A0FA-EA406FB922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EBCC-D411-464B-B110-E122C54742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043B-5726-41BD-B7C4-6E9229EF3E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7A19-30DE-4C03-81B3-02B109A5E3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2F5A-A794-4B7A-B2BD-DBDE007548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0C90-D5F3-4870-9D57-CF9CCE49A5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E5BF-1EE7-485F-A3BE-91DC22AA27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4BDB-D168-4E07-A741-F3584299A5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1A00-EA7A-465A-BD4E-9866E7FF3D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C6E1-99A0-4AC2-BFEB-1D5D38594A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3B47-F578-480B-8036-E584A6821B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06D5-5C08-4DB9-8A40-F2CD2BB498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BECD-B9A4-4E4E-83EA-E067ADB15B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E8B-36FA-4394-B6E0-F63E56B9F3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60B-5391-4331-B6AA-939C8F69B3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5DA-6A98-4714-ABEB-5DDE81210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3FD1-2B30-4591-9D80-A613AEDA22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F2C-3E13-4187-BF37-811E6BD160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A15-8853-4941-BFA1-F79EA113B0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6E5-AC5A-4B1D-BB2C-A2F5D4836B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983-C3B3-4916-AACB-2217DE13E6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24C-E951-4242-BBC2-BFC2267AA4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EC1-4342-4EB4-869C-543ECA9A60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AB3-5FAB-45F8-9A84-29A6C54122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7F5-9153-4F11-8DDD-0EFC6257F5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764-246D-4A63-9BEB-7217FA6126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8FA0E-D559-4A1A-AB9A-C1B398CDB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3774-7D70-463F-AB81-15BF6054377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F15F4-0347-45BE-B359-CC732705FA0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A3348-72F5-4256-B060-2BC2081E02C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84066-F2EE-4DE2-BD08-C29213CC12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B229F-4C3E-459E-8DB5-DBE1298ACA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80F55-8FB0-49B8-90A3-8F8792E19EE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6E2CA-C0E9-4281-ACEB-E6732865FD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C4F04-FB9B-45BF-85BC-74D31DCB39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6F773-03E5-4270-A3D8-FA4A71FE74C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15019-4210-4E21-B867-F11F56C779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BEF23-0C3F-45FD-8D93-57E46CFA3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CAEA-7BBC-428D-B42C-5990DD08F0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51945-B44B-495D-9CF3-03F46665EFA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8EB41-84E2-42A9-BC2E-4ABE407C429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8F0CD-E47A-4E2C-B7FF-B62A761015E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D99EF-CA91-4AC0-96EE-EA0B2CE7BB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552E4-0CDE-466F-A504-57C5BA9209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50DA2-4C23-4736-A6D0-09069713AF4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4A583-6BFA-413A-BB42-7B179D176A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5E2E2-E377-4CC4-95C1-F1FCA8F30B4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23640-0C47-427C-A053-359BCC3C807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9FEE0-619E-4EC8-8112-E08C59F87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2F45-66A3-4030-88A4-41812BA484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A1FA1-288E-44B6-9BBE-EAD2F04B8F5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0AE3B-41AB-4A89-AE53-B4E595221E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190B6-CF6C-4BAE-8958-C6F0E27B19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7D87-62EB-4550-AFC9-27FE327776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277B-D6DC-4BC9-AB06-326D3EBB01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8F0E-D707-430F-AD6F-42E4495438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6E3D-8C95-471B-8686-A0E63644B9B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55B1-31FA-4DD8-950E-17C5D5459EE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15D7-4D2C-4B4D-8A52-C87D268DF5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3AED-8E34-44E6-8662-C44053059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6442-5214-432A-A5EC-7ED6ACAF4D7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6975-E42C-46BB-B166-CF7C668446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C024-C82E-4804-81E2-868BF2E0BF4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FB5C-39CE-42FE-9A11-353BD8FB64D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E868-B5DF-4E93-B637-08A0A9A493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E837-53EB-409F-9C3E-A47A5D76EFC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0873A-E94D-4F12-A2C7-EEAA40EF142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FF949-EFBB-4D96-BE0F-4CD597B0B71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DCDB0-1486-4F8A-87EA-C595072997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49D6D3-8E3C-4877-9BBB-E60E032ABBC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32A7B0-CF69-4F1D-BA64-AD7EA81E1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15B5-3BB3-4AC7-BD3E-5EB4F34084A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1A7F1-A7C2-4BED-95D1-900BD24FDF6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980AF3-F6AF-4EAD-B659-B1556DC0255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96C838-B486-43BE-AC04-686320E61C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7D353-C3FD-4DDF-AB6D-5CB61412D52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38BA0-E414-411F-9438-3F95ACEE9E7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E049B-4600-4CD7-9F3A-55BF9F46EEB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EF6CC-93F8-42B5-905C-6E616DAAD3E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1CC32-2C22-4881-8D0B-A1AEB66333D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4C533-BBAE-4F5F-B628-8D4EFC7EA9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CE6F3-39F4-498E-9B95-13E3AF493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9360" y="6381720"/>
            <a:ext cx="19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16FD-8855-4B1A-A124-B5B4F206A08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2"/>
          <p:cNvSpPr/>
          <p:nvPr/>
        </p:nvSpPr>
        <p:spPr>
          <a:xfrm>
            <a:off x="395280" y="6389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9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3523275-1BE1-4F65-B99E-32870E58E65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2"/>
          <p:cNvSpPr/>
          <p:nvPr/>
        </p:nvSpPr>
        <p:spPr>
          <a:xfrm>
            <a:off x="404640" y="638964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10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5D85393-014B-4D89-947B-82D869C173E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2"/>
          <p:cNvSpPr/>
          <p:nvPr/>
        </p:nvSpPr>
        <p:spPr>
          <a:xfrm>
            <a:off x="384120" y="635148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11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B75FD6C-306B-4B63-88FD-CA832415F40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2"/>
          <p:cNvSpPr/>
          <p:nvPr/>
        </p:nvSpPr>
        <p:spPr>
          <a:xfrm>
            <a:off x="384120" y="630864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Num" idx="12"/>
          </p:nvPr>
        </p:nvSpPr>
        <p:spPr>
          <a:xfrm>
            <a:off x="8757720" y="6381720"/>
            <a:ext cx="15588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72B6-208A-4F7F-B487-96760031E31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13"/>
          </p:nvPr>
        </p:nvSpPr>
        <p:spPr>
          <a:xfrm>
            <a:off x="8639280" y="656280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1E16-A26C-4639-B319-1D84FC4C5B80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392040" y="602136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14"/>
          </p:nvPr>
        </p:nvSpPr>
        <p:spPr>
          <a:xfrm>
            <a:off x="8639280" y="656280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5376-9912-4FF1-81B2-003BF21B5B8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rostokąt 8"/>
          <p:cNvSpPr/>
          <p:nvPr/>
        </p:nvSpPr>
        <p:spPr>
          <a:xfrm>
            <a:off x="8233200" y="64533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CE2D-8EE6-4B3F-9FA2-451776E94EC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rostokąt z zaokrąglonym rogiem 7"/>
          <p:cNvSpPr/>
          <p:nvPr/>
        </p:nvSpPr>
        <p:spPr>
          <a:xfrm flipV="1">
            <a:off x="0" y="-720"/>
            <a:ext cx="9144000" cy="4110120"/>
          </a:xfrm>
          <a:custGeom>
            <a:avLst/>
            <a:gdLst/>
            <a:ahLst/>
            <a:rect l="l" t="t" r="r" b="b"/>
            <a:pathLst>
              <a:path w="9144000" h="4110038">
                <a:moveTo>
                  <a:pt x="0" y="0"/>
                </a:moveTo>
                <a:lnTo>
                  <a:pt x="8458980" y="0"/>
                </a:lnTo>
                <a:cubicBezTo>
                  <a:pt x="8837306" y="0"/>
                  <a:pt x="9144000" y="306694"/>
                  <a:pt x="9144000" y="685020"/>
                </a:cubicBezTo>
                <a:lnTo>
                  <a:pt x="9144000" y="4110038"/>
                </a:lnTo>
                <a:lnTo>
                  <a:pt x="0" y="4110038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Łza 7"/>
          <p:cNvSpPr/>
          <p:nvPr/>
        </p:nvSpPr>
        <p:spPr>
          <a:xfrm rot="16200000">
            <a:off x="7125480" y="2975400"/>
            <a:ext cx="1638360" cy="1617480"/>
          </a:xfrm>
          <a:custGeom>
            <a:avLst/>
            <a:gdLst/>
            <a:ahLst/>
            <a:rect l="l" t="t" r="r" b="b"/>
            <a:pathLst>
              <a:path w="1638300" h="1617662">
                <a:moveTo>
                  <a:pt x="0" y="808831"/>
                </a:moveTo>
                <a:cubicBezTo>
                  <a:pt x="0" y="362126"/>
                  <a:pt x="366746" y="0"/>
                  <a:pt x="819150" y="0"/>
                </a:cubicBezTo>
                <a:lnTo>
                  <a:pt x="1638300" y="0"/>
                </a:lnTo>
                <a:lnTo>
                  <a:pt x="1638300" y="808831"/>
                </a:lnTo>
                <a:cubicBezTo>
                  <a:pt x="1638300" y="1255536"/>
                  <a:pt x="1271554" y="1617662"/>
                  <a:pt x="819150" y="1617662"/>
                </a:cubicBezTo>
                <a:cubicBezTo>
                  <a:pt x="366746" y="1617662"/>
                  <a:pt x="0" y="1255536"/>
                  <a:pt x="0" y="808831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rostokąt z zaokrąglonym rogiem 7"/>
          <p:cNvSpPr/>
          <p:nvPr/>
        </p:nvSpPr>
        <p:spPr>
          <a:xfrm flipV="1">
            <a:off x="0" y="-720"/>
            <a:ext cx="9144000" cy="5334120"/>
          </a:xfrm>
          <a:custGeom>
            <a:avLst/>
            <a:gdLst/>
            <a:ahLst/>
            <a:rect l="l" t="t" r="r" b="b"/>
            <a:pathLst>
              <a:path w="9144000" h="5334000">
                <a:moveTo>
                  <a:pt x="0" y="0"/>
                </a:moveTo>
                <a:lnTo>
                  <a:pt x="8254982" y="0"/>
                </a:lnTo>
                <a:cubicBezTo>
                  <a:pt x="8745973" y="0"/>
                  <a:pt x="9144000" y="398027"/>
                  <a:pt x="9144000" y="889018"/>
                </a:cubicBezTo>
                <a:lnTo>
                  <a:pt x="9144000" y="5334000"/>
                </a:lnTo>
                <a:lnTo>
                  <a:pt x="0" y="5334000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Łza 7"/>
          <p:cNvSpPr/>
          <p:nvPr/>
        </p:nvSpPr>
        <p:spPr>
          <a:xfrm rot="16200000">
            <a:off x="6963480" y="4524840"/>
            <a:ext cx="1638360" cy="1617480"/>
          </a:xfrm>
          <a:custGeom>
            <a:avLst/>
            <a:gdLst/>
            <a:ahLst/>
            <a:rect l="l" t="t" r="r" b="b"/>
            <a:pathLst>
              <a:path w="1638300" h="1617662">
                <a:moveTo>
                  <a:pt x="0" y="808831"/>
                </a:moveTo>
                <a:cubicBezTo>
                  <a:pt x="0" y="362126"/>
                  <a:pt x="366746" y="0"/>
                  <a:pt x="819150" y="0"/>
                </a:cubicBezTo>
                <a:lnTo>
                  <a:pt x="1638300" y="0"/>
                </a:lnTo>
                <a:lnTo>
                  <a:pt x="1638300" y="808831"/>
                </a:lnTo>
                <a:cubicBezTo>
                  <a:pt x="1638300" y="1255536"/>
                  <a:pt x="1271554" y="1617662"/>
                  <a:pt x="819150" y="1617662"/>
                </a:cubicBezTo>
                <a:cubicBezTo>
                  <a:pt x="366746" y="1617662"/>
                  <a:pt x="0" y="1255536"/>
                  <a:pt x="0" y="808831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rostokąt z zaokrąglonym rogiem 7"/>
          <p:cNvSpPr/>
          <p:nvPr/>
        </p:nvSpPr>
        <p:spPr>
          <a:xfrm flipV="1">
            <a:off x="0" y="0"/>
            <a:ext cx="9144000" cy="1373040"/>
          </a:xfrm>
          <a:custGeom>
            <a:avLst/>
            <a:gdLst/>
            <a:ahLst/>
            <a:rect l="l" t="t" r="r" b="b"/>
            <a:pathLst>
              <a:path w="9144000" h="1373188">
                <a:moveTo>
                  <a:pt x="0" y="0"/>
                </a:moveTo>
                <a:lnTo>
                  <a:pt x="8915131" y="0"/>
                </a:lnTo>
                <a:cubicBezTo>
                  <a:pt x="9041532" y="0"/>
                  <a:pt x="9144000" y="102468"/>
                  <a:pt x="9144000" y="228869"/>
                </a:cubicBezTo>
                <a:lnTo>
                  <a:pt x="9144000" y="1373188"/>
                </a:lnTo>
                <a:lnTo>
                  <a:pt x="0" y="1373188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Łza 7"/>
          <p:cNvSpPr/>
          <p:nvPr/>
        </p:nvSpPr>
        <p:spPr>
          <a:xfrm rot="16200000">
            <a:off x="7385040" y="426960"/>
            <a:ext cx="1447920" cy="1454400"/>
          </a:xfrm>
          <a:custGeom>
            <a:avLst/>
            <a:gdLst/>
            <a:ahLst/>
            <a:rect l="l" t="t" r="r" b="b"/>
            <a:pathLst>
              <a:path w="1447800" h="1454150">
                <a:moveTo>
                  <a:pt x="0" y="727075"/>
                </a:moveTo>
                <a:cubicBezTo>
                  <a:pt x="0" y="325523"/>
                  <a:pt x="324101" y="0"/>
                  <a:pt x="723900" y="0"/>
                </a:cubicBezTo>
                <a:lnTo>
                  <a:pt x="1447800" y="0"/>
                </a:lnTo>
                <a:lnTo>
                  <a:pt x="1447800" y="727075"/>
                </a:lnTo>
                <a:cubicBezTo>
                  <a:pt x="1447800" y="1128627"/>
                  <a:pt x="1123699" y="1454150"/>
                  <a:pt x="723900" y="1454150"/>
                </a:cubicBezTo>
                <a:cubicBezTo>
                  <a:pt x="324101" y="1454150"/>
                  <a:pt x="0" y="1128627"/>
                  <a:pt x="0" y="727075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579600" y="816120"/>
            <a:ext cx="8013600" cy="47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117360" indent="-11736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Łza 6"/>
          <p:cNvSpPr/>
          <p:nvPr/>
        </p:nvSpPr>
        <p:spPr>
          <a:xfrm>
            <a:off x="3513240" y="0"/>
            <a:ext cx="5630760" cy="5454720"/>
          </a:xfrm>
          <a:custGeom>
            <a:avLst/>
            <a:gdLst/>
            <a:ahLst/>
            <a:rect l="l" t="t" r="r" b="b"/>
            <a:pathLst>
              <a:path w="5630862" h="5454650">
                <a:moveTo>
                  <a:pt x="0" y="2727325"/>
                </a:moveTo>
                <a:cubicBezTo>
                  <a:pt x="0" y="1221065"/>
                  <a:pt x="1260511" y="0"/>
                  <a:pt x="2815431" y="0"/>
                </a:cubicBezTo>
                <a:lnTo>
                  <a:pt x="5630862" y="0"/>
                </a:lnTo>
                <a:lnTo>
                  <a:pt x="5630862" y="2727325"/>
                </a:lnTo>
                <a:cubicBezTo>
                  <a:pt x="5630862" y="4233585"/>
                  <a:pt x="4370351" y="5454650"/>
                  <a:pt x="2815431" y="5454650"/>
                </a:cubicBezTo>
                <a:cubicBezTo>
                  <a:pt x="1260511" y="5454650"/>
                  <a:pt x="0" y="4233585"/>
                  <a:pt x="0" y="2727325"/>
                </a:cubicBez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Łza 7"/>
          <p:cNvSpPr/>
          <p:nvPr/>
        </p:nvSpPr>
        <p:spPr>
          <a:xfrm rot="16200000">
            <a:off x="2597760" y="2219760"/>
            <a:ext cx="3114720" cy="3218040"/>
          </a:xfrm>
          <a:custGeom>
            <a:avLst/>
            <a:gdLst/>
            <a:ahLst/>
            <a:rect l="l" t="t" r="r" b="b"/>
            <a:pathLst>
              <a:path w="3114675" h="3217863">
                <a:moveTo>
                  <a:pt x="0" y="1608932"/>
                </a:moveTo>
                <a:cubicBezTo>
                  <a:pt x="0" y="720343"/>
                  <a:pt x="697244" y="0"/>
                  <a:pt x="1557338" y="0"/>
                </a:cubicBezTo>
                <a:lnTo>
                  <a:pt x="3114675" y="0"/>
                </a:lnTo>
                <a:lnTo>
                  <a:pt x="3114675" y="1608932"/>
                </a:lnTo>
                <a:cubicBezTo>
                  <a:pt x="3114675" y="2497521"/>
                  <a:pt x="2417431" y="3217864"/>
                  <a:pt x="1557337" y="3217864"/>
                </a:cubicBezTo>
                <a:cubicBezTo>
                  <a:pt x="697243" y="3217864"/>
                  <a:pt x="-1" y="2497521"/>
                  <a:pt x="-1" y="1608932"/>
                </a:cubicBezTo>
                <a:lnTo>
                  <a:pt x="0" y="1608932"/>
                </a:ln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1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4A74-4220-4D33-BD33-01C5DD1357EF}" type="datetime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1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wiązek Miast Polsk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6852A99-E74A-4D63-8AFA-3A8A197A189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3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273C549-281B-4C02-AD66-D26C21F3B89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4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4BFD0F1-C26F-4EDD-BAF7-B5BACC3AF41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5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DB6B852-B3EE-4655-B7ED-D4828E1BC41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6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EE14718-91F0-46F9-A862-77ED37B9C42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7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361CD6E-FD74-4F6D-A968-DBA9EFD1734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8"/>
          </p:nvPr>
        </p:nvSpPr>
        <p:spPr>
          <a:xfrm>
            <a:off x="8788320" y="6381720"/>
            <a:ext cx="192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1159-2A85-4B57-9526-5432923F5F5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Tytuł 1"/>
          <p:cNvGrpSpPr/>
          <p:nvPr/>
        </p:nvGrpSpPr>
        <p:grpSpPr>
          <a:xfrm>
            <a:off x="480960" y="311040"/>
            <a:ext cx="5797440" cy="3376800"/>
            <a:chOff x="480960" y="311040"/>
            <a:chExt cx="5797440" cy="3376800"/>
          </a:xfrm>
        </p:grpSpPr>
        <p:pic>
          <p:nvPicPr>
            <p:cNvPr id="836" name="Tytuł 1" descr=""/>
            <p:cNvPicPr/>
            <p:nvPr/>
          </p:nvPicPr>
          <p:blipFill>
            <a:blip r:embed="rId1"/>
            <a:stretch/>
          </p:blipFill>
          <p:spPr>
            <a:xfrm>
              <a:off x="480960" y="311040"/>
              <a:ext cx="5797440" cy="33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611280" y="439560"/>
              <a:ext cx="5538600" cy="31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6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Szkolenie PS3 / NS6</a:t>
              </a:r>
              <a:br>
                <a:rPr sz="4000"/>
              </a:br>
              <a:r>
                <a:rPr b="1" lang="pl-PL" sz="4000" spc="-1" strike="noStrike">
                  <a:solidFill>
                    <a:srgbClr val="ffffff"/>
                  </a:solidFill>
                  <a:latin typeface="Arial"/>
                </a:rPr>
                <a:t>Stosowanie narzędzi elektronicznych</a:t>
              </a:r>
              <a:br>
                <a:rPr sz="4000"/>
              </a:br>
              <a:br>
                <a:rPr sz="4000"/>
              </a:br>
              <a:r>
                <a:rPr b="1" lang="pl-PL" sz="4000" spc="-1" strike="noStrike">
                  <a:solidFill>
                    <a:srgbClr val="ffffff"/>
                  </a:solidFill>
                  <a:latin typeface="Arial"/>
                </a:rPr>
                <a:t>Urząd Miasta….. </a:t>
              </a:r>
              <a:br>
                <a:rPr sz="4000"/>
              </a:b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……………….20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pole tekstowe 13"/>
          <p:cNvSpPr/>
          <p:nvPr/>
        </p:nvSpPr>
        <p:spPr>
          <a:xfrm>
            <a:off x="146160" y="5807160"/>
            <a:ext cx="80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58595b"/>
                </a:solidFill>
                <a:latin typeface="Times New Roman CE"/>
                <a:ea typeface="Arial"/>
              </a:rPr>
              <a:t>Projekt: „Nowoczesne rozwiązania w obszarze podatków i opłat lokalnych  oraz zarządzania nieruchomościami dla 6 miast - członków Związku Miast Polskich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Obraz 15" descr=""/>
          <p:cNvPicPr/>
          <p:nvPr/>
        </p:nvPicPr>
        <p:blipFill>
          <a:blip r:embed="rId2"/>
          <a:stretch/>
        </p:blipFill>
        <p:spPr>
          <a:xfrm>
            <a:off x="765000" y="5200560"/>
            <a:ext cx="7016760" cy="549360"/>
          </a:xfrm>
          <a:prstGeom prst="rect">
            <a:avLst/>
          </a:prstGeom>
          <a:ln w="0">
            <a:noFill/>
          </a:ln>
        </p:spPr>
      </p:pic>
      <p:pic>
        <p:nvPicPr>
          <p:cNvPr id="840" name="Grafika 2" descr=""/>
          <p:cNvPicPr/>
          <p:nvPr/>
        </p:nvPicPr>
        <p:blipFill>
          <a:blip r:embed="rId3"/>
          <a:stretch/>
        </p:blipFill>
        <p:spPr>
          <a:xfrm>
            <a:off x="1982880" y="4429080"/>
            <a:ext cx="561960" cy="665280"/>
          </a:xfrm>
          <a:prstGeom prst="rect">
            <a:avLst/>
          </a:prstGeom>
          <a:ln w="0">
            <a:noFill/>
          </a:ln>
        </p:spPr>
      </p:pic>
      <p:pic>
        <p:nvPicPr>
          <p:cNvPr id="841" name="Grafika 5" descr=""/>
          <p:cNvPicPr/>
          <p:nvPr/>
        </p:nvPicPr>
        <p:blipFill>
          <a:blip r:embed="rId4"/>
          <a:stretch/>
        </p:blipFill>
        <p:spPr>
          <a:xfrm>
            <a:off x="2682720" y="4429080"/>
            <a:ext cx="465120" cy="558720"/>
          </a:xfrm>
          <a:prstGeom prst="rect">
            <a:avLst/>
          </a:prstGeom>
          <a:ln w="0">
            <a:noFill/>
          </a:ln>
        </p:spPr>
      </p:pic>
      <p:pic>
        <p:nvPicPr>
          <p:cNvPr id="842" name="Grafika 7" descr=""/>
          <p:cNvPicPr/>
          <p:nvPr/>
        </p:nvPicPr>
        <p:blipFill>
          <a:blip r:embed="rId5"/>
          <a:stretch/>
        </p:blipFill>
        <p:spPr>
          <a:xfrm>
            <a:off x="3365640" y="4429080"/>
            <a:ext cx="509400" cy="606600"/>
          </a:xfrm>
          <a:prstGeom prst="rect">
            <a:avLst/>
          </a:prstGeom>
          <a:ln w="0">
            <a:noFill/>
          </a:ln>
        </p:spPr>
      </p:pic>
      <p:pic>
        <p:nvPicPr>
          <p:cNvPr id="843" name="Grafika 9" descr=""/>
          <p:cNvPicPr/>
          <p:nvPr/>
        </p:nvPicPr>
        <p:blipFill>
          <a:blip r:embed="rId6"/>
          <a:stretch/>
        </p:blipFill>
        <p:spPr>
          <a:xfrm>
            <a:off x="4095720" y="4268880"/>
            <a:ext cx="473040" cy="741240"/>
          </a:xfrm>
          <a:prstGeom prst="rect">
            <a:avLst/>
          </a:prstGeom>
          <a:ln w="0">
            <a:noFill/>
          </a:ln>
        </p:spPr>
      </p:pic>
      <p:pic>
        <p:nvPicPr>
          <p:cNvPr id="844" name="Grafika 11" descr=""/>
          <p:cNvPicPr/>
          <p:nvPr/>
        </p:nvPicPr>
        <p:blipFill>
          <a:blip r:embed="rId7"/>
          <a:stretch/>
        </p:blipFill>
        <p:spPr>
          <a:xfrm>
            <a:off x="4811760" y="4448160"/>
            <a:ext cx="473040" cy="549360"/>
          </a:xfrm>
          <a:prstGeom prst="rect">
            <a:avLst/>
          </a:prstGeom>
          <a:ln w="0">
            <a:noFill/>
          </a:ln>
        </p:spPr>
      </p:pic>
      <p:pic>
        <p:nvPicPr>
          <p:cNvPr id="845" name="Grafika 14" descr=""/>
          <p:cNvPicPr/>
          <p:nvPr/>
        </p:nvPicPr>
        <p:blipFill>
          <a:blip r:embed="rId8"/>
          <a:stretch/>
        </p:blipFill>
        <p:spPr>
          <a:xfrm>
            <a:off x="5514840" y="4448160"/>
            <a:ext cx="48276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20480" y="942480"/>
            <a:ext cx="788652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0480" y="942480"/>
            <a:ext cx="788652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08:34:56Z</dcterms:created>
  <dc:creator>User</dc:creator>
  <dc:description/>
  <dc:language>en-US</dc:language>
  <cp:lastModifiedBy>Sylwia</cp:lastModifiedBy>
  <cp:lastPrinted>2019-02-21T10:31:22Z</cp:lastPrinted>
  <dcterms:modified xsi:type="dcterms:W3CDTF">2019-05-21T10:34:01Z</dcterms:modified>
  <cp:revision>12</cp:revision>
  <dc:subject/>
  <dc:title>Szkolenie PS5 Zarządzanie procesami i jakością Urząd Miasta Tarnowa 14 – 15 listopada 2017</dc:title>
</cp:coreProperties>
</file>